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5E3-27E0-4D2E-809D-BAD49DDB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C1C-8352-472D-82E6-CBDAC248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E1E-7EBB-4C67-9EFD-12D6B1D2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1B0-161B-4E05-8E24-DBF070E5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B71-9AEC-489D-A03C-28401BE1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2AA-11DE-4227-B9E5-F792C3E5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454-37EC-4977-ADFB-E023FC34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A0C-9334-4BF4-A4BD-AA777CA7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8AB-628B-4E2D-88FE-50C5B414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CEE-78FE-410C-ABE3-FEA55763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72A-4596-4F9B-9640-F25943EF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160-1FC9-40E8-B7FB-6A5004C2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E3AE-97E4-4FB1-8702-3135501DA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. 10-6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sting the Difference Between 2 Propor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2 proportions involves all of the same procedures as b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&amp;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your test statistic using your calculator test #6.  (formula on next sl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your C.V.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your d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= Population proportion for each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362320" y="457200"/>
                <a:ext cx="396216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09480" y="4343400"/>
                <a:ext cx="18288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3276720"/>
                <a:ext cx="10666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800600" y="304920"/>
            <a:ext cx="1523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28600"/>
            <a:ext cx="1600200" cy="254160"/>
          </a:xfrm>
          <a:custGeom>
            <a:avLst/>
            <a:gdLst/>
            <a:ahLst/>
            <a:rect l="l" t="t" r="r" b="b"/>
            <a:pathLst>
              <a:path w="1008" h="160">
                <a:moveTo>
                  <a:pt x="0" y="64"/>
                </a:moveTo>
                <a:cubicBezTo>
                  <a:pt x="276" y="32"/>
                  <a:pt x="552" y="0"/>
                  <a:pt x="720" y="16"/>
                </a:cubicBezTo>
                <a:cubicBezTo>
                  <a:pt x="888" y="32"/>
                  <a:pt x="948" y="96"/>
                  <a:pt x="1008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68580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again, not used -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09480" y="5562720"/>
                <a:ext cx="13734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CONFIDENCE INTERVAL you will use test #B in your calculator…2 PROPORTION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4:56:24Z</dcterms:created>
  <dc:creator>jgonzale</dc:creator>
  <dc:description/>
  <dc:language>en-US</dc:language>
  <cp:lastModifiedBy>jgonzale</cp:lastModifiedBy>
  <dcterms:modified xsi:type="dcterms:W3CDTF">2009-04-19T13:49:55Z</dcterms:modified>
  <cp:revision>5</cp:revision>
  <dc:subject/>
  <dc:title>Sec. 10-6: Testing the Difference Between 2 Proportions</dc:title>
</cp:coreProperties>
</file>